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086-9F54-4E77-8243-252E7D04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49F-A113-421C-9438-D1D935E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617-8820-4B4E-83CD-D6DFFCC6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221-DE9F-4FF0-995C-00E61DFB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B1E5-14ED-42C4-814C-1197D3E2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35FF-8440-4DF7-B8EC-38E7E0D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5BA-3D3F-4E07-851F-775712B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A89E-1AE5-4C14-9194-3A4A864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94B9-A228-423E-95B5-243D4D1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922-5270-4667-83D2-1989BFA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8B2-513A-4293-BB1E-BF41011F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B61-DE6E-460C-9180-E4AA10A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346-7118-4E2E-805E-1AF4C28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75D-F40E-4735-B9F9-829DCF1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957E-ED87-446B-81A0-C9D765E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5B66-22D7-42A8-B3FC-FEDF399F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80D-A4B5-48F9-8D43-2CD46B3D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4E2-7F49-4823-9DF8-27A3A4E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3CD-2345-41F9-9267-EACD3222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3EF-F800-4C8A-A14A-5381BB5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BEC-3BEC-4C9A-89AF-D56081D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B8F-DA6A-40E9-80F2-256AD437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BE2-F813-4FB9-AFA2-9344C5C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F37-5BA4-4131-B660-09888D3F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DF8-1C1F-483F-A67C-5D79F0DFD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F4F-A801-4F0C-9F60-FA5FAD1576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formula represents an organic compoun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 Mg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2. NaCl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3. 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1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4. 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12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22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11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1:33Z</dcterms:created>
  <dc:creator>WaiverDay</dc:creator>
  <dc:description/>
  <dc:language>en-US</dc:language>
  <cp:lastModifiedBy>PritchaJ</cp:lastModifiedBy>
  <dcterms:modified xsi:type="dcterms:W3CDTF">2011-06-01T13:57:38Z</dcterms:modified>
  <cp:revision>2</cp:revision>
  <dc:subject/>
  <dc:title>Biochemistry Bellringer #2</dc:title>
</cp:coreProperties>
</file>